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1E0-BDC2-4C96-9E41-694A1356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D0F4-3953-4639-A35D-A8556A4C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3C7-E521-44D8-8FAC-93CC40DB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B105-51DC-4552-8CB6-7984910C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37B2-5366-4C32-826F-23150D29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9510-D442-4454-B143-9B01FF48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549B-FA80-4A8E-9EB0-40F0999F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8775-B45E-4681-A642-34A211EC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AAF6-21ED-40D7-ADEC-569F43B9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E835-4BC1-499C-B019-6B22D7D4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2FF5-02D4-4C86-9922-274CC71C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123-9535-4E37-805C-56CE3689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79BB-25C3-4EAB-945C-3B553CC4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22D0-FB64-474F-8CD9-169BDABC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D6DF-3EC5-453D-AA4C-0810CFBD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C297-459C-41D9-9AF4-E14E72C4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483A-B179-4529-9155-A8D5CD7E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15A71-A110-4EE7-BE70-C07F57F5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391DB-A14A-4598-AA7A-B85AC2F3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135E1-2E3E-461D-AD6B-B224511A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535D3-878A-4618-AFEF-9E347AFC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299FD-31C5-4721-8B7A-73B67B77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066-960E-4158-B0F4-6030F4E0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A8BE4-0F97-4742-93A1-D989BE81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CFA2A-90D4-4AF6-BA18-BCA94DF4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C557D-9481-44CB-A098-BE028844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1E969-06E3-48C9-89F3-BCA2673F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CD904-E4B8-4A48-8E23-5A7A2AE8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91EEF-7B53-4918-8B32-DCEE94F2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F8F1C-1877-47EF-9D6C-6A44A3CD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8B8C7-8285-44D7-853E-E91A0400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BE2AF-9192-45B0-AFFB-E1C3EF3C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1072D-593C-4E36-89E7-5EAEC8C7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E895-77CA-4729-B5BE-C8217486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BFA9B-7FF7-4BA4-8A2E-399B857C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7C81D-4A5E-4A28-935B-B9165697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1EAA5-0139-40C7-A09C-760E87CD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0F605-722B-4BA4-91D0-9A91F9CA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41D5B-4FE6-4247-B03B-F68F420B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E67FB-A4FA-4464-B086-45717D72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1C830-2FCB-4AE6-8B6F-B726FE82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F0942-0DAB-4C87-979F-07DD5BA9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175CA-C9C6-4D46-99D7-3BF8C1C6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26927-C38D-4240-B8B0-87A94E60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11E-6384-42A9-9682-EC502E67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6BE09-D95B-403A-8206-FE616F9F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20967-4129-49D0-9C26-CC39646A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30A57-7D73-4726-80F6-A656DC0C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CC9F5-69BF-4300-AF7E-B13F1CF7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8B94C-6551-4095-958D-CCA538A7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40431-A620-46A2-8601-1025F6CF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F3FB3-68E6-486C-9B84-9CCE618E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45A08-C660-4ABB-B3BA-6AAA16A7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A2C13-BDE7-489F-9AE0-541574B2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55DCA-1E0A-4419-80C2-6CF9C459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32E-DC73-4DC1-98E9-09E95E3B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85902-3841-4E85-A21C-EC98BB3B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1968E-ABA8-437E-AE64-75635F11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894CA-CDAE-4DFA-B2A1-F6E051AB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83339-F031-48DC-BA24-B49931F8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53741-358B-47DB-86F9-597B0F99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AC154-D0BF-4DB3-ABBF-67FAA2AA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70EA5-CBE4-4D4D-A780-A029E5CC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4FC2E-3D7B-4358-AB74-22432A1A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7EB7F-2C73-4F8E-8C33-F76FAD34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4D3D0-872B-4190-92E8-858B0C02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2C6-0F7D-4524-9B52-A48A0DF1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595AE-49E1-4DB9-9018-E3126D6D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7FE76-15B0-4539-8807-90AD8788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648F7-711A-4581-B808-3858646E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ED2BA-E8F1-4FF9-A922-2D9075F6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F610C-CAF6-4698-B180-171F90FA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D0D2C-9DD5-4F47-9991-29806CDE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689DC-6C90-4895-AA26-E15922CE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AD643-796B-434D-B4F2-D0FB54D9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A6E9C-BC94-44F4-BE81-78CE16CA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809D0-8146-44E2-8EDC-C4F347E6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FE4-D660-4C54-9DF2-75644F48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8B2D4-EA9A-418D-A4D0-8DE65A17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E41EF-9718-49F2-9333-A763F502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5D079-DA42-4330-85D9-EDB4CE15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82ECB-8807-4CE0-BFC5-EFA5FA49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DDAAA-CAFA-4D9C-AF13-3989E3CD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CF9E1-542F-49DD-9507-96068756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92C4B-D029-4ED4-B8F0-C6E66CC4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E6192-DCBA-431D-AC2C-909360CD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9E809-1ED5-406F-A4DF-25F5EE08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9F787-8AE8-467D-AE50-D80D72E4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61BF-BCCA-4EB7-A095-D4F2BFF3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FB2CC-E8FF-4B33-A214-5E71FD07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FF824-AB79-4C2D-B964-704DD43E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C15AA-FCDB-482D-8D6A-1F34F863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8524C-05B5-4D4E-B444-9C35EE82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9C4B1-1827-47F3-8CB1-8C259CD1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296EC-B57C-4424-8A2B-43CF8A52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F8329-3E31-4355-93C8-2A2D33F7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42FD-2421-40C9-BD6D-0AA224F190F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7638-FEA4-42AF-A326-FC007A385BE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FB1C-38BD-4C1F-AC5B-C13A3A33B2A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B328-DB03-4731-817D-1F3EEF0A4F2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D4EC-431C-4930-ACEB-A37F48BE347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D4BE-CA73-4EC1-AB14-D24E19D7658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6742-6E65-4574-AEBC-93E090D0540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1851-E658-4BF7-A490-7D9438F363B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f Vicki weren’t such a boring teacher, I wouldn’t sleep during clas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make a question, use question word order in the main cla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.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f you were sleep-deprived, </a:t>
            </a: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would you be able to tell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if clause is not needed if the condition is understood by the listen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How would you be able to te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do you make a question using the present unreal conditional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ke an example question present unreal condition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the verb to be, use “were” for all subj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f I were rich, </a:t>
            </a: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I would open my own schoo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f she were rich, </a:t>
            </a: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he would buy a new BMW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f you were rich, </a:t>
            </a: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what would you do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f Ohlone College were the best school in the bay area,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many students would want to go the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 a present unreal conditional sentence using the verb to b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 a present unreal conditional using a ques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 a present unreal conditional using wou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 a present unreal conditional using mig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sent unreal conditionals have two clau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clause is a group of words that have a subject and verb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Two Clau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Lucida Sans Unicode"/>
              </a:rPr>
              <a:t>If clau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states the cond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Result clau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states the resul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many clauses do present unreal conditional statements hav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s a clau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ame the two clauses in a present unreal condition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Lucida Sans Unicode"/>
              </a:rPr>
              <a:t>If clau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If + Subject + past form of verb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. If Abraham didn’t ignore Vicki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Result clause-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bject + would + base form of ver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. he would understand present unreal conditiona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Lucida Sans Unicode"/>
              </a:rPr>
              <a:t>If Abraham didn’t ignore Vicki, </a:t>
            </a: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he would understand present unreal conditiona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do you form t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f clau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do you form the </a:t>
            </a: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result clau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s t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f claus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this sentenc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s the </a:t>
            </a: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result clau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is sentenc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. Maren would make a wonderful teacher if she had more patien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sent unreal conditionals talk about  something that is untrue, impossible, or imagin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y describe the opposite of what is tru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f teenagers went to sleep before 10:00 PM, </a:t>
            </a: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they would be more awake in schoo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o present unreal conditionals describ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hings that is……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opp………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would + base form of verb to describe a definite resul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.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f Nimfa didn’t have such a hectic lifestyle, </a:t>
            </a:r>
            <a:r>
              <a:rPr b="0" lang="en-US" sz="2700" spc="-1" strike="noStrike">
                <a:solidFill>
                  <a:srgbClr val="00b0f0"/>
                </a:solidFill>
                <a:latin typeface="Lucida Sans Unicode"/>
              </a:rPr>
              <a:t>she would sleep bett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might or could to describe a possible resul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.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f students knew about the dangers of sleep-derivation, they might take their sleep habits more serious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do we use “would” in a present unreal conditional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do we use “might” or “could” in a present unreal conditional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22:32:44Z</dcterms:created>
  <dc:creator> </dc:creator>
  <dc:description/>
  <dc:language>en-US</dc:language>
  <cp:lastModifiedBy>***-Ohlone College-***</cp:lastModifiedBy>
  <dcterms:modified xsi:type="dcterms:W3CDTF">2011-02-28T20:00:35Z</dcterms:modified>
  <cp:revision>2</cp:revision>
  <dc:subject/>
  <dc:title>Present Unreal Conditionals</dc:title>
</cp:coreProperties>
</file>